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dn102.wav" ContentType="audio/x-wav"/>
  <Override PartName="/ppt/media/image3.wmf" ContentType="image/x-wmf"/>
  <Override PartName="/ppt/media/zapbig0g.wav" ContentType="audio/x-wav"/>
  <Override PartName="/ppt/media/planeflyby.wav" ContentType="audio/x-wav"/>
  <Override PartName="/ppt/media/jetflyby2.wav" ContentType="audio/x-wav"/>
  <Override PartName="/ppt/media/zipup202.wav" ContentType="audio/x-wav"/>
  <Override PartName="/ppt/media/childrenlaugh.wav" ContentType="audio/x-wav"/>
  <Override PartName="/ppt/media/byipee04.wav" ContentType="audio/x-wav"/>
  <Override PartName="/ppt/media/WHOOSH.WAV" ContentType="audio/x-wav"/>
  <Override PartName="/ppt/media/children%20wow.wav" ContentType="audio/x-wav"/>
  <Override PartName="/ppt/media/Baseball%20critical%20stop.wav" ContentType="audio/x-wav"/>
  <Override PartName="/ppt/media/spacesnap.wav" ContentType="audio/x-wav"/>
  <Override PartName="/ppt/media/carpeel.wav" ContentType="audio/x-wav"/>
  <Override PartName="/ppt/media/traingoby.wav" ContentType="audio/x-wav"/>
  <Override PartName="/ppt/media/LASER.WAV" ContentType="audio/x-wav"/>
  <Override PartName="/ppt/media/doorbl07.wav" ContentType="audio/x-wav"/>
  <Override PartName="/ppt/media/drmrol03.wav" ContentType="audio/x-wav"/>
  <Override PartName="/ppt/media/image2.wmf" ContentType="image/x-wmf"/>
  <Override PartName="/ppt/media/caralarmoff.wav" ContentType="audio/x-wav"/>
  <Override PartName="/ppt/media/bserie06.wav" ContentType="audio/x-wav"/>
  <Override PartName="/ppt/media/lzipup01.wav" ContentType="audio/x-wav"/>
  <Override PartName="/ppt/media/image1.png" ContentType="image/png"/>
  <Override PartName="/ppt/media/highchime.wav" ContentType="audio/x-wav"/>
  <Override PartName="/ppt/media/CHIMES.WAV" ContentType="audio/x-wav"/>
  <Override PartName="/ppt/media/jetflyby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9DE-FE41-428E-9D6E-84198519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DCB-F8AA-4E9B-9CFC-BEAB908B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BD2-7F7D-43A6-A564-8EEDB209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E08-4BC3-4AC7-ACDD-D72B0CC2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A88-24E2-4A78-A864-E50096C0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D89-AFF8-4198-AB94-3F31E402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9CF-5986-4FBF-A86D-D711C7DF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298-EE17-4D3C-9ED9-CA984D70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734-8B95-42D0-9277-DD48F7D0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918-961E-42BE-815C-BAD51D79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03E-62F4-4B2A-BE53-0BC6E57B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559-8E99-4A56-AA19-D426DBF6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5A22-FE13-4ADD-9ADD-6A5B6F2F83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caralarmoff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highchime.wav"/><Relationship Id="rId20" Type="http://schemas.openxmlformats.org/officeDocument/2006/relationships/audio" Target="../media/highchime.wav"/><Relationship Id="rId21" Type="http://schemas.openxmlformats.org/officeDocument/2006/relationships/audio" Target="../media/bserie06.wav"/><Relationship Id="rId22" Type="http://schemas.openxmlformats.org/officeDocument/2006/relationships/audio" Target="../media/spacesnap.wav"/><Relationship Id="rId23" Type="http://schemas.openxmlformats.org/officeDocument/2006/relationships/audio" Target="../media/bserie06.wav"/><Relationship Id="rId24" Type="http://schemas.openxmlformats.org/officeDocument/2006/relationships/audio" Target="../media/spacesnap.wav"/><Relationship Id="rId25" Type="http://schemas.openxmlformats.org/officeDocument/2006/relationships/audio" Target="../media/bserie06.wav"/><Relationship Id="rId26" Type="http://schemas.openxmlformats.org/officeDocument/2006/relationships/audio" Target="../media/spacesnap.wav"/><Relationship Id="rId27" Type="http://schemas.openxmlformats.org/officeDocument/2006/relationships/audio" Target="../media/bserie06.wav"/><Relationship Id="rId28" Type="http://schemas.openxmlformats.org/officeDocument/2006/relationships/audio" Target="../media/spacesnap.wav"/><Relationship Id="rId29" Type="http://schemas.openxmlformats.org/officeDocument/2006/relationships/audio" Target="../media/bserie06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apbig0g.wav"/><Relationship Id="rId5" Type="http://schemas.openxmlformats.org/officeDocument/2006/relationships/audio" Target="../media/jetflyby2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zipup202.wav"/><Relationship Id="rId5" Type="http://schemas.openxmlformats.org/officeDocument/2006/relationships/audio" Target="../media/jetflyby.wav"/><Relationship Id="rId6" Type="http://schemas.openxmlformats.org/officeDocument/2006/relationships/audio" Target="../media/jetflyby.wav"/><Relationship Id="rId7" Type="http://schemas.openxmlformats.org/officeDocument/2006/relationships/audio" Target="../media/jetflyby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zipup202.wav"/><Relationship Id="rId2" Type="http://schemas.openxmlformats.org/officeDocument/2006/relationships/audio" Target="../media/jetflyby.wav"/><Relationship Id="rId3" Type="http://schemas.openxmlformats.org/officeDocument/2006/relationships/audio" Target="../media/jetflyby.wav"/><Relationship Id="rId4" Type="http://schemas.openxmlformats.org/officeDocument/2006/relationships/audio" Target="../media/jetflyby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zapbig0g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jetflyb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jetflyby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zipup202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jetflyby.wav"/><Relationship Id="rId3" Type="http://schemas.openxmlformats.org/officeDocument/2006/relationships/audio" Target="../media/LASER.WAV"/><Relationship Id="rId4" Type="http://schemas.openxmlformats.org/officeDocument/2006/relationships/audio" Target="../media/jetflyby.wav"/><Relationship Id="rId5" Type="http://schemas.openxmlformats.org/officeDocument/2006/relationships/audio" Target="../media/LASER.WAV"/><Relationship Id="rId6" Type="http://schemas.openxmlformats.org/officeDocument/2006/relationships/audio" Target="../media/jetflyby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zipup202.wav"/><Relationship Id="rId8" Type="http://schemas.openxmlformats.org/officeDocument/2006/relationships/audio" Target="../media/drmrol03.wav"/><Relationship Id="rId9" Type="http://schemas.openxmlformats.org/officeDocument/2006/relationships/audio" Target="../media/doorbl07.wav"/><Relationship Id="rId10" Type="http://schemas.openxmlformats.org/officeDocument/2006/relationships/audio" Target="../media/traingoby.wav"/><Relationship Id="rId11" Type="http://schemas.openxmlformats.org/officeDocument/2006/relationships/audio" Target="../media/zipup202.wav"/><Relationship Id="rId12" Type="http://schemas.openxmlformats.org/officeDocument/2006/relationships/audio" Target="../media/carpeel.wav"/><Relationship Id="rId13" Type="http://schemas.openxmlformats.org/officeDocument/2006/relationships/audio" Target="../media/childrenlaugh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zipup202.wav"/><Relationship Id="rId5" Type="http://schemas.openxmlformats.org/officeDocument/2006/relationships/audio" Target="../media/zipup202.wav"/><Relationship Id="rId6" Type="http://schemas.openxmlformats.org/officeDocument/2006/relationships/audio" Target="../media/bserie06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Baseball%20critical%20stop.wav"/><Relationship Id="rId4" Type="http://schemas.openxmlformats.org/officeDocument/2006/relationships/audio" Target="../media/jetflyby2.wav"/><Relationship Id="rId5" Type="http://schemas.openxmlformats.org/officeDocument/2006/relationships/audio" Target="../media/Baseball%20critical%20stop.wav"/><Relationship Id="rId6" Type="http://schemas.openxmlformats.org/officeDocument/2006/relationships/audio" Target="../media/jetflyby2.wav"/><Relationship Id="rId7" Type="http://schemas.openxmlformats.org/officeDocument/2006/relationships/audio" Target="../media/Baseball%20critical%20stop.wav"/><Relationship Id="rId8" Type="http://schemas.openxmlformats.org/officeDocument/2006/relationships/audio" Target="../media/jetflyby2.wav"/><Relationship Id="rId9" Type="http://schemas.openxmlformats.org/officeDocument/2006/relationships/audio" Target="../media/Baseball%20critical%20stop.wav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doorbl07.wav"/><Relationship Id="rId8" Type="http://schemas.openxmlformats.org/officeDocument/2006/relationships/audio" Target="../media/doorbl07.wav"/><Relationship Id="rId9" Type="http://schemas.openxmlformats.org/officeDocument/2006/relationships/audio" Target="../media/doorbl07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doorbl07.wav"/><Relationship Id="rId3" Type="http://schemas.openxmlformats.org/officeDocument/2006/relationships/audio" Target="../media/doorbl07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doorbl07.wav"/><Relationship Id="rId3" Type="http://schemas.openxmlformats.org/officeDocument/2006/relationships/audio" Target="../media/doorbl07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zipup202.wav"/><Relationship Id="rId9" Type="http://schemas.openxmlformats.org/officeDocument/2006/relationships/audio" Target="../media/zipup202.wav"/><Relationship Id="rId10" Type="http://schemas.openxmlformats.org/officeDocument/2006/relationships/audio" Target="../media/carpeel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zipup202.wav"/><Relationship Id="rId6" Type="http://schemas.openxmlformats.org/officeDocument/2006/relationships/audio" Target="../media/zipup202.wav"/><Relationship Id="rId7" Type="http://schemas.openxmlformats.org/officeDocument/2006/relationships/audio" Target="../media/bserie06.wav"/><Relationship Id="rId8" Type="http://schemas.openxmlformats.org/officeDocument/2006/relationships/audio" Target="../media/zipup202.wav"/><Relationship Id="rId9" Type="http://schemas.openxmlformats.org/officeDocument/2006/relationships/audio" Target="../media/bserie06.wav"/><Relationship Id="rId10" Type="http://schemas.openxmlformats.org/officeDocument/2006/relationships/audio" Target="../media/zipup202.wav"/><Relationship Id="rId11" Type="http://schemas.openxmlformats.org/officeDocument/2006/relationships/audio" Target="../media/carpeel.wav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children%20wow.wav"/><Relationship Id="rId4" Type="http://schemas.openxmlformats.org/officeDocument/2006/relationships/audio" Target="../media/jetflyby2.wav"/><Relationship Id="rId5" Type="http://schemas.openxmlformats.org/officeDocument/2006/relationships/audio" Target="../media/children%20wow.wav"/><Relationship Id="rId6" Type="http://schemas.openxmlformats.org/officeDocument/2006/relationships/audio" Target="../media/jetflyby2.wav"/><Relationship Id="rId7" Type="http://schemas.openxmlformats.org/officeDocument/2006/relationships/audio" Target="../media/children%20wow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ralarmoff.wav"/><Relationship Id="rId3" Type="http://schemas.openxmlformats.org/officeDocument/2006/relationships/audio" Target="../media/planeflyby.wav"/><Relationship Id="rId4" Type="http://schemas.openxmlformats.org/officeDocument/2006/relationships/audio" Target="../media/planeflyby.wav"/><Relationship Id="rId5" Type="http://schemas.openxmlformats.org/officeDocument/2006/relationships/audio" Target="../media/planeflyby.wav"/><Relationship Id="rId6" Type="http://schemas.openxmlformats.org/officeDocument/2006/relationships/audio" Target="../media/planeflyby.wav"/><Relationship Id="rId7" Type="http://schemas.openxmlformats.org/officeDocument/2006/relationships/audio" Target="../media/planeflyby.wav"/><Relationship Id="rId8" Type="http://schemas.openxmlformats.org/officeDocument/2006/relationships/audio" Target="../media/planeflyby.wav"/><Relationship Id="rId9" Type="http://schemas.openxmlformats.org/officeDocument/2006/relationships/audio" Target="../media/planeflyby.wav"/><Relationship Id="rId10" Type="http://schemas.openxmlformats.org/officeDocument/2006/relationships/audio" Target="../media/bserie06.wav"/><Relationship Id="rId11" Type="http://schemas.openxmlformats.org/officeDocument/2006/relationships/audio" Target="../media/Baseball%20critical%20stop.wav"/><Relationship Id="rId12" Type="http://schemas.openxmlformats.org/officeDocument/2006/relationships/audio" Target="../media/Baseball%20critical%20stop.wav"/><Relationship Id="rId13" Type="http://schemas.openxmlformats.org/officeDocument/2006/relationships/audio" Target="../media/Baseball%20critical%20stop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children%20wow.wav"/><Relationship Id="rId20" Type="http://schemas.openxmlformats.org/officeDocument/2006/relationships/audio" Target="../media/children%20wow.wav"/><Relationship Id="rId21" Type="http://schemas.openxmlformats.org/officeDocument/2006/relationships/audio" Target="../media/children%20wow.wav"/><Relationship Id="rId22" Type="http://schemas.openxmlformats.org/officeDocument/2006/relationships/audio" Target="../media/children%20wow.wav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highchime.wav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bserie06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Baseball%20critical%20stop.wav"/><Relationship Id="rId18" Type="http://schemas.openxmlformats.org/officeDocument/2006/relationships/audio" Target="../media/jetflyby2.wav"/><Relationship Id="rId19" Type="http://schemas.openxmlformats.org/officeDocument/2006/relationships/audio" Target="../media/Baseball%20critical%20stop.wav"/><Relationship Id="rId20" Type="http://schemas.openxmlformats.org/officeDocument/2006/relationships/audio" Target="../media/jetflyby2.wav"/><Relationship Id="rId21" Type="http://schemas.openxmlformats.org/officeDocument/2006/relationships/audio" Target="../media/Baseball%20critical%20stop.wav"/><Relationship Id="rId22" Type="http://schemas.openxmlformats.org/officeDocument/2006/relationships/audio" Target="../media/jetflyby2.wav"/><Relationship Id="rId23" Type="http://schemas.openxmlformats.org/officeDocument/2006/relationships/audio" Target="../media/Baseball%20critical%20stop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yipee04.wav"/><Relationship Id="rId5" Type="http://schemas.openxmlformats.org/officeDocument/2006/relationships/audio" Target="../media/jetflyby2.wav"/><Relationship Id="rId6" Type="http://schemas.openxmlformats.org/officeDocument/2006/relationships/audio" Target="../media/byipee04.wav"/><Relationship Id="rId7" Type="http://schemas.openxmlformats.org/officeDocument/2006/relationships/audio" Target="../media/jetflyby2.wav"/><Relationship Id="rId8" Type="http://schemas.openxmlformats.org/officeDocument/2006/relationships/audio" Target="../media/byipee04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824360"/>
            <a:ext cx="57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.  Name four poi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81200" y="552600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4560" y="553392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54240" y="55339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6160" y="5511960"/>
            <a:ext cx="8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71600" y="4383000"/>
            <a:ext cx="147600" cy="14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52960" y="1393920"/>
            <a:ext cx="147960" cy="14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09840" y="1738440"/>
            <a:ext cx="147600" cy="14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67360" y="1739880"/>
            <a:ext cx="147600" cy="147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spacesn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pacesn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spacesn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spacesn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45  9 – 1 #1 –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7192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at the right. Find each of the following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6600" y="413532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.  all segments skew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714920" y="1609560"/>
            <a:ext cx="3556080" cy="1555920"/>
          </a:xfrm>
          <a:prstGeom prst="cube">
            <a:avLst>
              <a:gd name="adj" fmla="val 25000"/>
            </a:avLst>
          </a:prstGeom>
          <a:solidFill>
            <a:srgbClr val="33cc33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34040" y="132552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75720" y="1305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3400" y="2583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45480" y="2438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87800" y="15764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82160" y="172548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80080" y="3057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82160" y="290340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80400" y="1596960"/>
            <a:ext cx="0" cy="117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2786040"/>
            <a:ext cx="3164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66000" y="2771640"/>
            <a:ext cx="392040" cy="3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087880" y="3914640"/>
                <a:ext cx="1200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33600" y="4834080"/>
                <a:ext cx="923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448000" y="4829040"/>
                <a:ext cx="109836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J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645080" y="4840200"/>
                <a:ext cx="88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544920" y="4829040"/>
                <a:ext cx="110016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702320" y="1609560"/>
            <a:ext cx="3193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77120" y="1986120"/>
            <a:ext cx="0" cy="11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3720" y="1995480"/>
            <a:ext cx="0" cy="1166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97280" y="2759040"/>
            <a:ext cx="395280" cy="409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859880" y="2768760"/>
            <a:ext cx="426960" cy="40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4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990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polygon with three sides is a 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5880" y="914400"/>
            <a:ext cx="1924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iang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16765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ying triangles by 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8600" y="2362320"/>
            <a:ext cx="2514600" cy="2470680"/>
            <a:chOff x="228600" y="2362320"/>
            <a:chExt cx="2514600" cy="2470680"/>
          </a:xfrm>
        </p:grpSpPr>
        <p:sp>
          <p:nvSpPr>
            <p:cNvPr id="300" name=""/>
            <p:cNvSpPr/>
            <p:nvPr/>
          </p:nvSpPr>
          <p:spPr>
            <a:xfrm>
              <a:off x="380880" y="2362320"/>
              <a:ext cx="2286000" cy="14475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" y="388584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Acute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3 acute ang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429000" y="2362320"/>
            <a:ext cx="2484360" cy="2547000"/>
            <a:chOff x="3429000" y="2362320"/>
            <a:chExt cx="2484360" cy="2547000"/>
          </a:xfrm>
        </p:grpSpPr>
        <p:sp>
          <p:nvSpPr>
            <p:cNvPr id="303" name=""/>
            <p:cNvSpPr/>
            <p:nvPr/>
          </p:nvSpPr>
          <p:spPr>
            <a:xfrm>
              <a:off x="3733560" y="2362320"/>
              <a:ext cx="1828440" cy="1523880"/>
            </a:xfrm>
            <a:prstGeom prst="rtTriangle">
              <a:avLst/>
            </a:prstGeom>
            <a:solidFill>
              <a:srgbClr val="3333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29000" y="3962160"/>
              <a:ext cx="2484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Right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1 right an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95880" y="2362320"/>
            <a:ext cx="2824200" cy="2547000"/>
            <a:chOff x="6095880" y="2362320"/>
            <a:chExt cx="2824200" cy="2547000"/>
          </a:xfrm>
        </p:grpSpPr>
        <p:sp>
          <p:nvSpPr>
            <p:cNvPr id="306" name=""/>
            <p:cNvSpPr/>
            <p:nvPr/>
          </p:nvSpPr>
          <p:spPr>
            <a:xfrm>
              <a:off x="6095880" y="2362320"/>
              <a:ext cx="2209680" cy="1523880"/>
            </a:xfrm>
            <a:custGeom>
              <a:avLst/>
              <a:gdLst/>
              <a:ahLst/>
              <a:rect l="l" t="t" r="r" b="b"/>
              <a:pathLst>
                <a:path w="1392" h="960">
                  <a:moveTo>
                    <a:pt x="528" y="960"/>
                  </a:moveTo>
                  <a:lnTo>
                    <a:pt x="1392" y="960"/>
                  </a:lnTo>
                  <a:lnTo>
                    <a:pt x="0" y="0"/>
                  </a:lnTo>
                  <a:lnTo>
                    <a:pt x="528" y="96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72200" y="3962160"/>
              <a:ext cx="2747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Obtuse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1 obtuse an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990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polygon with three sides is a 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5880" y="914400"/>
            <a:ext cx="1924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riang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6765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ying triangles by s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19920" y="2286000"/>
            <a:ext cx="2824200" cy="3400560"/>
            <a:chOff x="6019920" y="2286000"/>
            <a:chExt cx="2824200" cy="3400560"/>
          </a:xfrm>
        </p:grpSpPr>
        <p:sp>
          <p:nvSpPr>
            <p:cNvPr id="313" name=""/>
            <p:cNvSpPr/>
            <p:nvPr/>
          </p:nvSpPr>
          <p:spPr>
            <a:xfrm>
              <a:off x="6019920" y="2286000"/>
              <a:ext cx="2209680" cy="1524240"/>
            </a:xfrm>
            <a:custGeom>
              <a:avLst/>
              <a:gdLst/>
              <a:ahLst/>
              <a:rect l="l" t="t" r="r" b="b"/>
              <a:pathLst>
                <a:path w="1392" h="960">
                  <a:moveTo>
                    <a:pt x="528" y="960"/>
                  </a:moveTo>
                  <a:lnTo>
                    <a:pt x="1392" y="960"/>
                  </a:lnTo>
                  <a:lnTo>
                    <a:pt x="0" y="0"/>
                  </a:lnTo>
                  <a:lnTo>
                    <a:pt x="528" y="96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6240" y="3886200"/>
              <a:ext cx="2747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Scalene 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          no congruent sid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28600" y="2362320"/>
            <a:ext cx="2514600" cy="3324240"/>
            <a:chOff x="228600" y="2362320"/>
            <a:chExt cx="2514600" cy="3324240"/>
          </a:xfrm>
        </p:grpSpPr>
        <p:grpSp>
          <p:nvGrpSpPr>
            <p:cNvPr id="316" name=""/>
            <p:cNvGrpSpPr/>
            <p:nvPr/>
          </p:nvGrpSpPr>
          <p:grpSpPr>
            <a:xfrm>
              <a:off x="228600" y="2362320"/>
              <a:ext cx="2514600" cy="3324240"/>
              <a:chOff x="228600" y="2362320"/>
              <a:chExt cx="2514600" cy="3324240"/>
            </a:xfrm>
          </p:grpSpPr>
          <p:sp>
            <p:nvSpPr>
              <p:cNvPr id="317" name=""/>
              <p:cNvSpPr/>
              <p:nvPr/>
            </p:nvSpPr>
            <p:spPr>
              <a:xfrm>
                <a:off x="380880" y="2362320"/>
                <a:ext cx="2286000" cy="144792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8600" y="3886200"/>
                <a:ext cx="25146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0000"/>
                    </a:solidFill>
                    <a:latin typeface="Times New Roman"/>
                  </a:rPr>
                  <a:t>Equilateral Triangle         </a:t>
                </a:r>
                <a:r>
                  <a:rPr b="1" lang="en-US" sz="2800" spc="-1" strike="noStrike">
                    <a:solidFill>
                      <a:srgbClr val="006600"/>
                    </a:solidFill>
                    <a:latin typeface="Times New Roman"/>
                  </a:rPr>
                  <a:t> 3 congruent sid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838080" y="2895480"/>
              <a:ext cx="30492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05120" y="2895120"/>
              <a:ext cx="30456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523880" y="3580920"/>
              <a:ext cx="0" cy="381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429000" y="2286000"/>
            <a:ext cx="2484360" cy="3476880"/>
            <a:chOff x="3429000" y="2286000"/>
            <a:chExt cx="2484360" cy="3476880"/>
          </a:xfrm>
        </p:grpSpPr>
        <p:sp>
          <p:nvSpPr>
            <p:cNvPr id="323" name=""/>
            <p:cNvSpPr/>
            <p:nvPr/>
          </p:nvSpPr>
          <p:spPr>
            <a:xfrm>
              <a:off x="3429000" y="3962520"/>
              <a:ext cx="2484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Isosceles Triangle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         2 congruent sid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09880" y="2286000"/>
              <a:ext cx="1295640" cy="1523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38480" y="2895480"/>
              <a:ext cx="30492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648320" y="2895120"/>
              <a:ext cx="30456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Judging by appearance, classify each triangle by its sides and 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80880" y="2209680"/>
            <a:ext cx="1981080" cy="2286000"/>
            <a:chOff x="380880" y="2209680"/>
            <a:chExt cx="1981080" cy="2286000"/>
          </a:xfrm>
        </p:grpSpPr>
        <p:sp>
          <p:nvSpPr>
            <p:cNvPr id="330" name=""/>
            <p:cNvSpPr/>
            <p:nvPr/>
          </p:nvSpPr>
          <p:spPr>
            <a:xfrm>
              <a:off x="380880" y="2209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90360" y="2286000"/>
              <a:ext cx="1371600" cy="2209680"/>
            </a:xfrm>
            <a:prstGeom prst="rtTriangle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286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Scal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200400" y="2286000"/>
            <a:ext cx="2362320" cy="1828800"/>
            <a:chOff x="3200400" y="2286000"/>
            <a:chExt cx="2362320" cy="1828800"/>
          </a:xfrm>
        </p:grpSpPr>
        <p:sp>
          <p:nvSpPr>
            <p:cNvPr id="335" name=""/>
            <p:cNvSpPr/>
            <p:nvPr/>
          </p:nvSpPr>
          <p:spPr>
            <a:xfrm>
              <a:off x="3276720" y="22860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0400" y="2362320"/>
              <a:ext cx="2362320" cy="1752480"/>
            </a:xfrm>
            <a:prstGeom prst="triangle">
              <a:avLst>
                <a:gd name="adj" fmla="val 50000"/>
              </a:avLst>
            </a:prstGeom>
            <a:solidFill>
              <a:srgbClr val="8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9718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Equilat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Ac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2362320"/>
            <a:ext cx="3809520" cy="1599840"/>
            <a:chOff x="5105520" y="2362320"/>
            <a:chExt cx="3809520" cy="1599840"/>
          </a:xfrm>
        </p:grpSpPr>
        <p:sp>
          <p:nvSpPr>
            <p:cNvPr id="340" name=""/>
            <p:cNvSpPr/>
            <p:nvPr/>
          </p:nvSpPr>
          <p:spPr>
            <a:xfrm>
              <a:off x="5636880" y="2580480"/>
              <a:ext cx="3278160" cy="1381680"/>
            </a:xfrm>
            <a:custGeom>
              <a:avLst/>
              <a:gdLst/>
              <a:ahLst/>
              <a:rect l="l" t="t" r="r" b="b"/>
              <a:pathLst>
                <a:path w="1872" h="816">
                  <a:moveTo>
                    <a:pt x="1872" y="816"/>
                  </a:moveTo>
                  <a:lnTo>
                    <a:pt x="672" y="816"/>
                  </a:lnTo>
                  <a:lnTo>
                    <a:pt x="0" y="0"/>
                  </a:lnTo>
                  <a:lnTo>
                    <a:pt x="1872" y="816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05520" y="2362320"/>
              <a:ext cx="11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1722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Isosce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72200" y="51055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Obt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990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polygon with four sides is a 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715000" y="914400"/>
            <a:ext cx="287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adrilateral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1447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ying quadrilaterals by angles and s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33520" y="2057400"/>
          <a:ext cx="822960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Judging by appearance, classify each quadrilateral by its sides and 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724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Rect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4724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Parallel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4724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rapez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80880" y="2209680"/>
            <a:ext cx="1981440" cy="2362320"/>
            <a:chOff x="380880" y="2209680"/>
            <a:chExt cx="1981440" cy="2362320"/>
          </a:xfrm>
        </p:grpSpPr>
        <p:sp>
          <p:nvSpPr>
            <p:cNvPr id="356" name=""/>
            <p:cNvSpPr/>
            <p:nvPr/>
          </p:nvSpPr>
          <p:spPr>
            <a:xfrm>
              <a:off x="380880" y="2209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14400" y="2362320"/>
              <a:ext cx="1447920" cy="220968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276720" y="2286000"/>
            <a:ext cx="1904760" cy="2209680"/>
            <a:chOff x="3276720" y="2286000"/>
            <a:chExt cx="1904760" cy="2209680"/>
          </a:xfrm>
        </p:grpSpPr>
        <p:sp>
          <p:nvSpPr>
            <p:cNvPr id="359" name=""/>
            <p:cNvSpPr/>
            <p:nvPr/>
          </p:nvSpPr>
          <p:spPr>
            <a:xfrm>
              <a:off x="3276720" y="22860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2438280"/>
              <a:ext cx="1371600" cy="2057400"/>
            </a:xfrm>
            <a:prstGeom prst="parallelogram">
              <a:avLst>
                <a:gd name="adj" fmla="val 25000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791320" y="2286000"/>
            <a:ext cx="2971800" cy="2133720"/>
            <a:chOff x="5791320" y="2286000"/>
            <a:chExt cx="2971800" cy="2133720"/>
          </a:xfrm>
        </p:grpSpPr>
        <p:sp>
          <p:nvSpPr>
            <p:cNvPr id="362" name=""/>
            <p:cNvSpPr/>
            <p:nvPr/>
          </p:nvSpPr>
          <p:spPr>
            <a:xfrm>
              <a:off x="5791320" y="22860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520" y="2438280"/>
              <a:ext cx="2514600" cy="1981440"/>
            </a:xfrm>
            <a:custGeom>
              <a:avLst/>
              <a:gdLst>
                <a:gd name="textAreaLeft" fmla="*/ 552960 w 2514600"/>
                <a:gd name="textAreaRight" fmla="*/ 1961640 w 2514600"/>
                <a:gd name="textAreaTop" fmla="*/ 435600 h 1981440"/>
                <a:gd name="textAreaBottom" fmla="*/ 154584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66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s Over 9 - 3                                Classifying Polyg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990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 polygon with all sides and all angles congruent is a _____________ poly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429000" y="1447920"/>
            <a:ext cx="160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gular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528480" y="220968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Write a formula to find the perimeter of a regular penta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581280" y="3352680"/>
          <a:ext cx="507384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50738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80880" y="3352680"/>
            <a:ext cx="3124440" cy="2210040"/>
          </a:xfrm>
          <a:prstGeom prst="pentagon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410080" y="4191120"/>
          <a:ext cx="96516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191120"/>
                    <a:ext cx="9651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04920" y="548640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Use this formula to find the perimeter if one side is 16 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86200" y="5942160"/>
                <a:ext cx="1219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029200" y="5867280"/>
                <a:ext cx="1341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mrol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raingo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685800"/>
            <a:ext cx="3657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114300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. an isosceles right triang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2362320"/>
            <a:ext cx="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518148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502920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057040" y="380988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09680" y="2362320"/>
            <a:ext cx="281952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2100"/>
                            </p:stCondLst>
                            <p:childTnLst>
                              <p:par>
                                <p:cTn id="1238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685800"/>
            <a:ext cx="3657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114300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 a scalene obtuse triang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2057400"/>
            <a:ext cx="1218960" cy="2209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4267080"/>
            <a:ext cx="3962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2057400"/>
            <a:ext cx="5181480" cy="2209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685800"/>
            <a:ext cx="3657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ketch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114300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 an isosceles obtuse triang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2039400" y="2737440"/>
            <a:ext cx="1617120" cy="2309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50292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823840" y="404964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73240" y="2746440"/>
            <a:ext cx="4402080" cy="2282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680" y="482436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  Name four different seg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355760" y="5460840"/>
                <a:ext cx="12762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654280" y="5468760"/>
                <a:ext cx="12762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011480" y="5467320"/>
                <a:ext cx="1144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122800" y="5483160"/>
                <a:ext cx="1189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832120" y="236052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79680" y="181944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78240" y="342756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25640" y="397980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685800"/>
            <a:ext cx="6342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perimeter of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1143000"/>
            <a:ext cx="5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303200" y="1604160"/>
            <a:ext cx="3462120" cy="1319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290600" y="2909880"/>
            <a:ext cx="39528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59200" y="1569960"/>
            <a:ext cx="482760" cy="133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11360" y="293220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9.8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20400000">
            <a:off x="2068560" y="176364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9.8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4200000">
            <a:off x="4440960" y="198828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.5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084320" y="3876840"/>
                <a:ext cx="8128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976400" y="3852720"/>
                <a:ext cx="1219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230640" y="3862440"/>
                <a:ext cx="1218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0080" y="3871800"/>
                <a:ext cx="14907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900760" y="4032360"/>
                <a:ext cx="812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" y="685800"/>
            <a:ext cx="6342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perimeter of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143000"/>
            <a:ext cx="86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.  An equilateral triangle that has a side of   36 y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124000" y="2468520"/>
                <a:ext cx="6778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573200" y="2449440"/>
                <a:ext cx="14446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967120" y="2463840"/>
                <a:ext cx="1353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309920" y="2536920"/>
                <a:ext cx="6588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685800"/>
            <a:ext cx="6342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perimeter of each figur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920" y="1143000"/>
            <a:ext cx="86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.  a square that has a side of  5.1 c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079720" y="2468520"/>
                <a:ext cx="7682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623960" y="2405160"/>
                <a:ext cx="14889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166920" y="2433600"/>
                <a:ext cx="1535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4738680" y="2608200"/>
                <a:ext cx="812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0280" y="722160"/>
            <a:ext cx="865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7.  Draw a parallelogram without a right angle but with four congruent sides. What is another name for this figu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600360" y="5892840"/>
                <a:ext cx="2078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ombu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 flipH="1" flipV="1">
            <a:off x="2156760" y="3143880"/>
            <a:ext cx="1617120" cy="2309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74960" y="543564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94280" y="5283360"/>
            <a:ext cx="0" cy="3045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941200" y="445608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143080" y="31590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695760" y="306180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4950720" y="3135960"/>
            <a:ext cx="1617120" cy="2309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35160" y="444816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57  9 – 3 #1 –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0280" y="722160"/>
            <a:ext cx="86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8.  Draw a regular quadrilater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3848040" y="5915160"/>
                <a:ext cx="15811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quar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2209680" y="2362320"/>
            <a:ext cx="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09680" y="518148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502920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057040" y="380988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17600" y="235728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36920" y="2205000"/>
            <a:ext cx="0" cy="304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32440" y="234144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879440" y="3789360"/>
            <a:ext cx="304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pe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13352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ractice 9 – 1/9 – 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9680" y="482436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  Write another name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50000" y="4551480"/>
                <a:ext cx="12002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654280" y="5513400"/>
                <a:ext cx="1235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027840" y="1249200"/>
            <a:ext cx="0" cy="3065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9680" y="482436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  Name three different r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378080" y="5438880"/>
                <a:ext cx="1177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662200" y="5446800"/>
                <a:ext cx="1177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89440" y="5443560"/>
                <a:ext cx="10922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flipH="1">
            <a:off x="2096640" y="3989520"/>
            <a:ext cx="709560" cy="72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076120" y="3422520"/>
            <a:ext cx="1292040" cy="1317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39000" y="1797120"/>
            <a:ext cx="0" cy="253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7840" y="485316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.  Name a segment that is 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parallel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581960" y="4614840"/>
                <a:ext cx="1243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716280" y="5505480"/>
                <a:ext cx="938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2822400" y="397368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32120" y="236052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95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9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s, Lines, and Pl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840" y="485316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.  Name a segment that is </a:t>
            </a:r>
            <a:r>
              <a:rPr b="1" i="1" lang="en-US" sz="3600" spc="-1" strike="noStrike">
                <a:solidFill>
                  <a:srgbClr val="006699"/>
                </a:solidFill>
                <a:latin typeface="Times New Roman"/>
              </a:rPr>
              <a:t>skew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20960" y="1816200"/>
            <a:ext cx="3219480" cy="2163600"/>
          </a:xfrm>
          <a:prstGeom prst="cube">
            <a:avLst>
              <a:gd name="adj" fmla="val 25000"/>
            </a:avLst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27840" y="1239840"/>
            <a:ext cx="0" cy="3075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085840" y="3992400"/>
            <a:ext cx="720720" cy="73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87600" y="3425760"/>
            <a:ext cx="2640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75000" y="1816200"/>
            <a:ext cx="0" cy="1609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098440" y="3425760"/>
            <a:ext cx="1276200" cy="128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3200" y="1455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9760" y="1608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8040" y="31417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7200" y="31669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2160" y="2097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22760" y="2174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44760" y="36687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95760" y="3797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8080" y="4403880"/>
            <a:ext cx="1159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72040" y="140184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78160" y="42591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75360" y="123336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43760" y="4629240"/>
                <a:ext cx="11574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FH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608280" y="5533920"/>
                <a:ext cx="1067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5486400" y="2333520"/>
            <a:ext cx="0" cy="1640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67080" y="1824120"/>
            <a:ext cx="267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75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45  9 – 1 #1 –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192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at the righ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267080" y="1425240"/>
            <a:ext cx="3729240" cy="11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61080" y="1384200"/>
            <a:ext cx="11556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9320" y="145728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88000" y="138420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70640" y="14590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9280" y="1370160"/>
            <a:ext cx="11592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66080" y="14731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360" y="190656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.  Name the line in three w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225440" y="2521080"/>
                <a:ext cx="1204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23960" y="2529000"/>
                <a:ext cx="1203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60640" y="2529000"/>
                <a:ext cx="1043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960" y="340200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.  Name three different seg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238400" y="4038480"/>
                <a:ext cx="1276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36920" y="4046400"/>
                <a:ext cx="127620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784680" y="4060800"/>
                <a:ext cx="1101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79360" y="4883040"/>
            <a:ext cx="73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  Name four different r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27240" y="5497560"/>
                <a:ext cx="12160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11360" y="5505480"/>
                <a:ext cx="12193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919760" y="5504040"/>
                <a:ext cx="10922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700440" y="5499000"/>
                <a:ext cx="1177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acc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100"/>
                            </p:stCondLst>
                            <p:childTnLst>
                              <p:par>
                                <p:cTn id="424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ane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45  9 – 1 #1 –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7192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at the right. Find each of the following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9200" y="424008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4.  all segments that inters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714920" y="1609560"/>
            <a:ext cx="3556080" cy="1555920"/>
          </a:xfrm>
          <a:prstGeom prst="cube">
            <a:avLst>
              <a:gd name="adj" fmla="val 25000"/>
            </a:avLst>
          </a:prstGeom>
          <a:solidFill>
            <a:srgbClr val="33cc33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34040" y="132552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875720" y="1305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2583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5480" y="2438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87800" y="15764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82160" y="172548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80080" y="3057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82160" y="290340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80400" y="1596960"/>
            <a:ext cx="0" cy="117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2786040"/>
            <a:ext cx="3164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66000" y="2771640"/>
            <a:ext cx="392040" cy="3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208560" y="3990960"/>
                <a:ext cx="1200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339920" y="4925880"/>
                <a:ext cx="13636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638440" y="4933800"/>
                <a:ext cx="136368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038480" y="4932360"/>
                <a:ext cx="11448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192640" y="4957920"/>
                <a:ext cx="110196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EH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702320" y="1609560"/>
            <a:ext cx="3193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0520" y="1609560"/>
            <a:ext cx="399960" cy="400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94800" y="1620720"/>
            <a:ext cx="399960" cy="400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70680" y="1622520"/>
            <a:ext cx="0" cy="118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1680" y="1616040"/>
            <a:ext cx="0" cy="118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880"/>
                            </p:stCondLst>
                            <p:childTnLst>
                              <p:par>
                                <p:cTn id="6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75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aseball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7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445  9 – 1 #1 –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719280"/>
            <a:ext cx="8839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se the figure at the right. Find each of the following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9200" y="4226040"/>
            <a:ext cx="85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5.  all segments parallel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714920" y="1609560"/>
            <a:ext cx="3556080" cy="1555920"/>
          </a:xfrm>
          <a:prstGeom prst="cube">
            <a:avLst>
              <a:gd name="adj" fmla="val 25000"/>
            </a:avLst>
          </a:prstGeom>
          <a:solidFill>
            <a:srgbClr val="33cc33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34040" y="132552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75720" y="1305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5830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5480" y="2438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87800" y="15764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82160" y="172548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80080" y="30574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82160" y="290340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80400" y="1596960"/>
            <a:ext cx="0" cy="117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786040"/>
            <a:ext cx="31640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66000" y="2771640"/>
            <a:ext cx="392040" cy="37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565600" y="3978360"/>
                <a:ext cx="1200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27040" y="4911840"/>
                <a:ext cx="1187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GF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617920" y="4932360"/>
                <a:ext cx="8348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435480" y="4943520"/>
                <a:ext cx="11905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702320" y="1609560"/>
            <a:ext cx="3193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24600" y="2001960"/>
            <a:ext cx="315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19560" y="3162240"/>
            <a:ext cx="3152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37240" y="2793960"/>
            <a:ext cx="3152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6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yipee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0:59:30Z</dcterms:created>
  <dc:creator>CCSS</dc:creator>
  <dc:description/>
  <dc:language>en-US</dc:language>
  <cp:lastModifiedBy>damon.skelton</cp:lastModifiedBy>
  <dcterms:modified xsi:type="dcterms:W3CDTF">2005-03-28T14:48:33Z</dcterms:modified>
  <cp:revision>24</cp:revision>
  <dc:subject/>
  <dc:title>No Slide Title</dc:title>
</cp:coreProperties>
</file>